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67D-22E9-4F61-923B-F02829AD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50E-FDFA-47A4-B923-0B33C97A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1AC-0E5F-47D6-B7DD-E4F38044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FE8-3D7D-4043-812D-B576E517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B16-0E09-4EF0-B508-B0DCDD62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E64-C952-46D5-8925-A9641968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F6C-0664-4547-A761-E94FF89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38C-D1C0-4300-93CB-82D57F15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E8B-0535-4DE2-AAE9-75026FEE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D7F-8D6D-4EA3-A5C8-7AE3F18F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837-F4FF-4E55-82C7-7AE46E88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E14-4937-4C7A-A515-EB0224A4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CD9D-0123-4E56-B3E7-C40F2FDADA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nidadanimal.info/inmun/images/fig2.gif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920" y="4143240"/>
            <a:ext cx="5572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e701"/>
                </a:solidFill>
                <a:latin typeface="Arial"/>
              </a:rPr>
              <a:t>THE IMMUNE </a:t>
            </a:r>
            <a:br>
              <a:rPr sz="6000"/>
            </a:br>
            <a:r>
              <a:rPr b="0" lang="en-GB" sz="6000" spc="-1" strike="noStrike">
                <a:solidFill>
                  <a:srgbClr val="ffe701"/>
                </a:solidFill>
                <a:latin typeface="Arial"/>
              </a:rPr>
              <a:t>SYSTEM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Picture 5" descr="White-Blood-Cells"/>
          <p:cNvPicPr/>
          <p:nvPr/>
        </p:nvPicPr>
        <p:blipFill>
          <a:blip r:embed="rId1"/>
          <a:stretch/>
        </p:blipFill>
        <p:spPr>
          <a:xfrm>
            <a:off x="1000080" y="4429080"/>
            <a:ext cx="2889360" cy="205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wbccomp"/>
          <p:cNvPicPr/>
          <p:nvPr/>
        </p:nvPicPr>
        <p:blipFill>
          <a:blip r:embed="rId2"/>
          <a:stretch/>
        </p:blipFill>
        <p:spPr>
          <a:xfrm>
            <a:off x="5121360" y="189000"/>
            <a:ext cx="3651120" cy="2739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Immune"/>
          <p:cNvPicPr/>
          <p:nvPr/>
        </p:nvPicPr>
        <p:blipFill>
          <a:blip r:embed="rId3"/>
          <a:stretch/>
        </p:blipFill>
        <p:spPr>
          <a:xfrm>
            <a:off x="1000080" y="214200"/>
            <a:ext cx="25416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cells are under attack they rele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istam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tamine plus chemicals from pathogens mea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eutrophi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attracted to the site of att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ogens are attached to antibodies and neutrophils hav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ntibody recepto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odcytosis of neutrophil membrane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hagocytic vacuo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ysosomes attach to phagocytic vacuole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athogen digested by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 anti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B-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ature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bone marrow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en concentrate in lymph nodes and 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-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ature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y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and T cells mature then circulate in the blood and lym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rculation ensures they come into contact with pathogens and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image40f"/>
          <p:cNvPicPr/>
          <p:nvPr/>
        </p:nvPicPr>
        <p:blipFill>
          <a:blip r:embed="rId1"/>
          <a:stretch/>
        </p:blipFill>
        <p:spPr>
          <a:xfrm>
            <a:off x="6300720" y="176040"/>
            <a:ext cx="2519280" cy="19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10 million different B-lymphocytes, each of which make a different anti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uge variety is caused by genes coding for antibodies changing slightly during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a small group of clones of each type of B-lymphocy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 the clone stage antibodies do not leave the B-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ntibodies are embedded in th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sma membrane of the cell and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ed antibody recep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the receptors in the membrane recognise an antigen on the surface of the pathogen the B-cell divides rapid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ntigens are presented to the B-cells by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acroph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fig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86760" y="2428920"/>
            <a:ext cx="13683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Picture 6" descr="img_3-2-5"/>
          <p:cNvPicPr/>
          <p:nvPr/>
        </p:nvPicPr>
        <p:blipFill>
          <a:blip r:embed="rId1"/>
          <a:stretch/>
        </p:blipFill>
        <p:spPr>
          <a:xfrm>
            <a:off x="2340000" y="1413000"/>
            <a:ext cx="4932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ated B cell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LASMA CELL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 lots of antibodi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1000/se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ntibodies travel to the blood, lymph, lining of gut and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umber of plasma cells goes down after a few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ies stay in the blood longer but eventually their numbers go down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ctivated B cell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MORY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mory cells divide rapidly as soon as the antigen is reint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many more memory cells than there were clon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the pathogen/infection infects again it is destroyed before any symptoms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Different Immunoglobuli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IGs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T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ture T-cells have T cell receptors which have a very similar structure to antibodies and are specific to 1 anti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activated when the receptor comes into contact with the Ag with another host cell (e.g. on a macrophage membrane or an invaded body c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t_lymphocyte2"/>
          <p:cNvPicPr/>
          <p:nvPr/>
        </p:nvPicPr>
        <p:blipFill>
          <a:blip r:embed="rId1"/>
          <a:stretch/>
        </p:blipFill>
        <p:spPr>
          <a:xfrm>
            <a:off x="468360" y="189000"/>
            <a:ext cx="1357200" cy="151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-lymph-dk2"/>
          <p:cNvPicPr/>
          <p:nvPr/>
        </p:nvPicPr>
        <p:blipFill>
          <a:blip r:embed="rId2"/>
          <a:stretch/>
        </p:blipFill>
        <p:spPr>
          <a:xfrm>
            <a:off x="7093080" y="260280"/>
            <a:ext cx="180468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T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fter activation the cell divides to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-helper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secrete CYTOK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lp B cells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imulate macroph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ytotoxic T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killer T cel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ill body cells displaying ant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mory 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main i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_lymphocyte2"/>
          <p:cNvPicPr/>
          <p:nvPr/>
        </p:nvPicPr>
        <p:blipFill>
          <a:blip r:embed="rId1"/>
          <a:stretch/>
        </p:blipFill>
        <p:spPr>
          <a:xfrm>
            <a:off x="468360" y="189000"/>
            <a:ext cx="135720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-lymph-dk2"/>
          <p:cNvPicPr/>
          <p:nvPr/>
        </p:nvPicPr>
        <p:blipFill>
          <a:blip r:embed="rId2"/>
          <a:stretch/>
        </p:blipFill>
        <p:spPr>
          <a:xfrm>
            <a:off x="7093080" y="260280"/>
            <a:ext cx="180468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Picture 4" descr="Life7e-Fig-18-02-1%20blood%20cells%20and%20their%20stem%20cells%20p1"/>
          <p:cNvPicPr/>
          <p:nvPr/>
        </p:nvPicPr>
        <p:blipFill>
          <a:blip r:embed="rId1"/>
          <a:stretch/>
        </p:blipFill>
        <p:spPr>
          <a:xfrm>
            <a:off x="684360" y="1238400"/>
            <a:ext cx="74167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ctive and Pass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8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ct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ymphocytes are activated  by antigens on the surface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Natural active immunity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- acquired due to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rtificial active immun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vacc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s time for enough B and T cells to be produced to mount an effective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ctive and Pass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8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ass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and T cells are not activated and plasma cells have not produced anti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ntigen doesn’t have to be encountered for the body to make the anti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ies appear immediately in blood but protection is only tempor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ctive and Pass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atural pass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mother’s antibodies pass across the placenta to the foetus and remain for several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strum (the first breast milk) contains lots of IgA which remain on surface of the baby’s gut wall and pass into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Immunity: Active and Passive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Vacc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reparation containing antige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ter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le live micro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ad micro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enuated (harmless) micro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xoid (harmless form of tox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ation of harmless a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jenner-vaccination-gr"/>
          <p:cNvPicPr/>
          <p:nvPr/>
        </p:nvPicPr>
        <p:blipFill>
          <a:blip r:embed="rId1"/>
          <a:stretch/>
        </p:blipFill>
        <p:spPr>
          <a:xfrm>
            <a:off x="155520" y="46080"/>
            <a:ext cx="1262160" cy="172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vaccination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Vacc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jection into vein or mus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jenner-vaccination-gr"/>
          <p:cNvPicPr/>
          <p:nvPr/>
        </p:nvPicPr>
        <p:blipFill>
          <a:blip r:embed="rId1"/>
          <a:stretch/>
        </p:blipFill>
        <p:spPr>
          <a:xfrm>
            <a:off x="155520" y="46080"/>
            <a:ext cx="12621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vaccination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Vacc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82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Why aren’t they always effec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 infections persist within the body for a long time so the immune system has time to develop an effective response, vaccinations from dead m-os do not do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ss effective vaccines need booster injections to stimulate secondary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jenner-vaccination-gr"/>
          <p:cNvPicPr/>
          <p:nvPr/>
        </p:nvPicPr>
        <p:blipFill>
          <a:blip r:embed="rId1"/>
          <a:stretch/>
        </p:blipFill>
        <p:spPr>
          <a:xfrm>
            <a:off x="155520" y="46080"/>
            <a:ext cx="1262160" cy="172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vaccination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Vaccin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Why aren’t they always effec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eople don’t respond well/at all to 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ective immun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lnutrition particularly prot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jenner-vaccination-gr"/>
          <p:cNvPicPr/>
          <p:nvPr/>
        </p:nvPicPr>
        <p:blipFill>
          <a:blip r:embed="rId1"/>
          <a:stretch/>
        </p:blipFill>
        <p:spPr>
          <a:xfrm>
            <a:off x="155520" y="46080"/>
            <a:ext cx="1262160" cy="172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vaccination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d spots containing transparent fluid all over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ots fill with p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yelids swell and become glued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2-30%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rvivors often left blind and disfigured with sca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Cells of the Immune Syst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agocytes - Neutroph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Macroph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Eradication program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ted by WHO in 19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imed to rid world of smallpox by 19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olved vaccination and surveil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 80% of populations at risk of the disease were vacc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fter any reported case everyone in the household and 30 surrounding households vaccinated –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ING VACC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Eradication program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st case of smallpox reported in Somalia in 19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orld declared free of smallpox in 19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Eradication programme – why was it successf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riola virus stable -&gt; cheap as everyone used same vac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e made from harmless strain of similar virus (vaccin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e could be used at high temper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y to identify infecte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llpox doesn’t lie dormant i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virus"/>
          <p:cNvPicPr/>
          <p:nvPr/>
        </p:nvPicPr>
        <p:blipFill>
          <a:blip r:embed="rId1"/>
          <a:stretch/>
        </p:blipFill>
        <p:spPr>
          <a:xfrm>
            <a:off x="0" y="0"/>
            <a:ext cx="2124000" cy="1598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reeve48135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easl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used by an airborne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eading cause of death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uses rash and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have fatal 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ive immunity from mothers in infants under 8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w quite a rare disease in developed countries due to vacc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vcbbcq"/>
          <p:cNvPicPr/>
          <p:nvPr/>
        </p:nvPicPr>
        <p:blipFill>
          <a:blip r:embed="rId1"/>
          <a:stretch/>
        </p:blipFill>
        <p:spPr>
          <a:xfrm>
            <a:off x="7340760" y="0"/>
            <a:ext cx="1803240" cy="256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MeaslesRashCDCWeb"/>
          <p:cNvPicPr/>
          <p:nvPr/>
        </p:nvPicPr>
        <p:blipFill>
          <a:blip r:embed="rId2"/>
          <a:stretch/>
        </p:blipFill>
        <p:spPr>
          <a:xfrm>
            <a:off x="0" y="0"/>
            <a:ext cx="32036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easl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mitted easily in overcrowded, insanitary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ly affects malnourished infants with vitamin A defici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ponsible for many cases of childhood blindness and can cause severe brain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d immunity of 93-95% needed to prevent transmission with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vcbbcq"/>
          <p:cNvPicPr/>
          <p:nvPr/>
        </p:nvPicPr>
        <p:blipFill>
          <a:blip r:embed="rId1"/>
          <a:stretch/>
        </p:blipFill>
        <p:spPr>
          <a:xfrm>
            <a:off x="7340760" y="0"/>
            <a:ext cx="1803240" cy="256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easlesRashCDCWeb"/>
          <p:cNvPicPr/>
          <p:nvPr/>
        </p:nvPicPr>
        <p:blipFill>
          <a:blip r:embed="rId2"/>
          <a:stretch/>
        </p:blipFill>
        <p:spPr>
          <a:xfrm>
            <a:off x="0" y="0"/>
            <a:ext cx="32036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ller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the immune system responds to harmless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Allerge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antigenic substances which do no real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ergens include house dust, animal skin, pollen, house dust mite and its fa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allergy-image"/>
          <p:cNvPicPr/>
          <p:nvPr/>
        </p:nvPicPr>
        <p:blipFill>
          <a:blip r:embed="rId1"/>
          <a:stretch/>
        </p:blipFill>
        <p:spPr>
          <a:xfrm>
            <a:off x="0" y="0"/>
            <a:ext cx="1531800" cy="2276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Allergy-Triggers-copy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ller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amine causes blood vessels to widen and become lea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luid and white blood cells leave capil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rea of leakage becomes hot, red and infl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allergy-image"/>
          <p:cNvPicPr/>
          <p:nvPr/>
        </p:nvPicPr>
        <p:blipFill>
          <a:blip r:embed="rId1"/>
          <a:stretch/>
        </p:blipFill>
        <p:spPr>
          <a:xfrm>
            <a:off x="0" y="0"/>
            <a:ext cx="1531800" cy="227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Allergy-Triggers-copy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d throughout life by the bone ma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cavengers – remove dead cells and micro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Phagocytes and Their Relatives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Neutrophi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0% of WB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trol tissues’ as they squeeze out of the capil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 numbers are released during 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rt lived – die after diges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ad neutrophils make up a large proportion of pu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normvtox"/>
          <p:cNvPicPr/>
          <p:nvPr/>
        </p:nvPicPr>
        <p:blipFill>
          <a:blip r:embed="rId1"/>
          <a:stretch/>
        </p:blipFill>
        <p:spPr>
          <a:xfrm>
            <a:off x="6300720" y="189000"/>
            <a:ext cx="26384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acroph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r than neutroph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und in the organs, not the b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de in bone marrow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onocyt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called macrophages once they reach org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ng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itiat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mmune responses as they display antigens from the pathogens to the lymphoc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7" descr="macrophages"/>
          <p:cNvPicPr/>
          <p:nvPr/>
        </p:nvPicPr>
        <p:blipFill>
          <a:blip r:embed="rId1"/>
          <a:stretch/>
        </p:blipFill>
        <p:spPr>
          <a:xfrm>
            <a:off x="6659640" y="333360"/>
            <a:ext cx="2247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acroph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Picture 4" descr="macrophages"/>
          <p:cNvPicPr/>
          <p:nvPr/>
        </p:nvPicPr>
        <p:blipFill>
          <a:blip r:embed="rId1"/>
          <a:stretch/>
        </p:blipFill>
        <p:spPr>
          <a:xfrm>
            <a:off x="6659640" y="333360"/>
            <a:ext cx="224784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gpresent"/>
          <p:cNvPicPr/>
          <p:nvPr/>
        </p:nvPicPr>
        <p:blipFill>
          <a:blip r:embed="rId2"/>
          <a:stretch/>
        </p:blipFill>
        <p:spPr>
          <a:xfrm>
            <a:off x="2124000" y="1969920"/>
            <a:ext cx="4854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16-08a_phagocytosis_1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John AJ O'Connor</cp:lastModifiedBy>
  <dcterms:modified xsi:type="dcterms:W3CDTF">2010-01-22T04:02:14Z</dcterms:modified>
  <cp:revision>41</cp:revision>
  <dc:subject/>
  <dc:title>THE IMMUNE SYSTEM</dc:title>
</cp:coreProperties>
</file>